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3FB4-3911-4811-B9C8-085ED7C0D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17D3-D95F-45B5-840B-37D73DA0C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0BCB-11D1-4407-9356-A7F4D0509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7777-4596-45B2-9271-07EEDDE96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E103D-C1B3-4593-874D-6ABD4A0EF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4A654-12BD-4415-9446-950163018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605A6-1F04-4276-B6A3-1A10284A8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9A47E-18ED-4E27-ADFA-3B4EB7E51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3DF75-AEF7-443F-8FD3-160266B8F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209FD-FF61-48BE-9D76-95DD3EB53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E4775-CCC5-424F-9F36-AF2B4A61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3A09-E79D-4D69-9256-AC3B8FF55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49335-81BA-4C14-BADE-584EAAF0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2785C-5655-4583-9266-7B6F6DB3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82442-5F73-42A6-B0BE-9745300D5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75DB9-66B4-4D80-9425-34FD3A461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19925-4640-427A-97DC-DED80EE40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BDDE-2052-4D4E-9BCA-C9D23539D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E4EA-FB53-4A31-9E60-87EB0EF79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95A3-4CB3-47BD-84FC-07F382C6E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0100-CAC7-4D87-9C5B-4D06EFA34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2EDD-C9D4-4BAD-9975-74D80271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E16D-CDED-4C59-9ABC-3EFAA40A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DCA9-6E94-40E4-BAA6-FEC99D4C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A68AB-A2E8-4F9E-BD8B-46815DDAE5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0487A-2022-4C51-B3D8-802CF8E42D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arm-Up Sentenc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til 1892 all professional boxing matches was slugged out with bear fists – no glo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lliam a cummings through the first curveball in Baseball history in 186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Journal #11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29528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ontaneous Writing: Pineap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arm-Up Sentenc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you set out to fail, writes John Holt in his book, How Children Fail, one thing it certain – you cant be dissappointed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ough banks may supply “virtual” money in the form of on-line cash the det my dear is all to re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Journal #12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21932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you could travel to any time period in history, where would you go and wh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Friday Warm-up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words in the English language are spelled very differently from the way they’re pronounced.  For instance, the wor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uchsi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pronounced “fyoosha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vent spellings for the following words that reflect the way they’re actually pronounced: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hoir, psycho, hymn, knight, myrr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do you think are the dictionary spellings for the words that are pronounced as the following: “skool,” “skeem,” “ruff,” “lepurd,” “skitsofrenia”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6:43:37Z</dcterms:created>
  <dc:creator>tpagel</dc:creator>
  <dc:description/>
  <dc:language>en-US</dc:language>
  <cp:lastModifiedBy>tpagel</cp:lastModifiedBy>
  <dcterms:modified xsi:type="dcterms:W3CDTF">2010-06-03T16:44:04Z</dcterms:modified>
  <cp:revision>1</cp:revision>
  <dc:subject/>
  <dc:title>Warm-Up Sentences</dc:title>
</cp:coreProperties>
</file>